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5FBB-331F-47F5-8C9D-7BDE14F23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n the other strands do you find connections to proportional 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acilitators hike around and collect informal diagnostic assessment for learning.  Think aloud observations to model for campers the purpose of Minds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Minds On different than the main proble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acilitators select several samples – indicators of additive, additive &amp; multiplicative, multiplicative th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ost and campers describe their s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iscuss format of a Congress and conceptual development of multiplicative thinking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BBD2-885B-49CF-A00C-6386A581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3D3F-2237-4BB1-8CA1-3383F241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E191-B059-4D1F-A192-97813332B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EE93-401B-4141-A886-2031C26C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D58F-C705-4AB5-82C4-DB58A8F0C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26A2-3B1F-47A6-861C-07A5D472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1A61-7AC4-45DD-9E71-EE23A858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D124-197D-477B-80FB-00D9471A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D04E-48A5-4464-BD0E-A13F8D1F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151C-9D57-457F-9C72-9E98A8D9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BB7D-9C96-4279-B19B-06AF379A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7F25-A653-4BFF-A1A4-EC9CEC9B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CDF4-6E48-4D5E-9F4D-D33DAF52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8D99-B82E-48DF-BA1E-E4E7532D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76F2-5135-4A7F-B8AB-155C32E6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B652-964B-46E9-99F7-A28A27184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1198-D1CD-442F-A9A2-DBCBE002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0BA9-D338-4189-BD8B-853B79AE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2976-6871-46C7-B25F-B4941ED9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89AB-4AE4-4F34-9871-677CFBBB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1498-E580-4B49-B569-5DB20DDE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1FCC-21A1-4885-854B-76319B3E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E397-4F85-454C-8415-E5CDBB6F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4D72-C45A-4903-A86F-83191EF6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E157-405F-402B-A96C-D4C7188AA2C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771D-9B43-4595-9EB3-A2EE2646353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469b"/>
                </a:solidFill>
                <a:latin typeface="Book Antiqua"/>
              </a:rPr>
              <a:t>Finding the path . . 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469b"/>
                </a:solidFill>
                <a:latin typeface="Book Antiqua"/>
              </a:rPr>
              <a:t>Session 2 - Morn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fter/Part 3/Consolida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olve the problem in your jour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 has 4 cards and now has 12 cards.  C has 10 cards and now has 20.  Would you rather be M or C? Explain your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cus:  What questions would you ask to move a students’ thinking from additive to multiplica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might this third part be an assessment (of) lea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Building the Fire . . .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ould having a continuum of proportional thinking from K – 12 be of val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we investigating proportional reasoning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your thoughts on the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Proportional Reasoning and Investigation Connections in Math Strand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96" name="Rectangle 2" descr=""/>
          <p:cNvPicPr/>
          <p:nvPr/>
        </p:nvPicPr>
        <p:blipFill>
          <a:blip r:embed="rId1"/>
          <a:stretch/>
        </p:blipFill>
        <p:spPr>
          <a:xfrm>
            <a:off x="3635280" y="2133720"/>
            <a:ext cx="1692360" cy="1665000"/>
          </a:xfrm>
          <a:prstGeom prst="rect">
            <a:avLst/>
          </a:prstGeom>
          <a:ln w="0">
            <a:noFill/>
          </a:ln>
        </p:spPr>
      </p:pic>
      <p:pic>
        <p:nvPicPr>
          <p:cNvPr id="97" name="Rectangle 2" descr=""/>
          <p:cNvPicPr/>
          <p:nvPr/>
        </p:nvPicPr>
        <p:blipFill>
          <a:blip r:embed="rId2"/>
          <a:stretch/>
        </p:blipFill>
        <p:spPr>
          <a:xfrm>
            <a:off x="6659640" y="2060640"/>
            <a:ext cx="1493640" cy="1493640"/>
          </a:xfrm>
          <a:prstGeom prst="rect">
            <a:avLst/>
          </a:prstGeom>
          <a:ln w="0">
            <a:noFill/>
          </a:ln>
        </p:spPr>
      </p:pic>
      <p:pic>
        <p:nvPicPr>
          <p:cNvPr id="98" name="Rectangle 2" descr=""/>
          <p:cNvPicPr/>
          <p:nvPr/>
        </p:nvPicPr>
        <p:blipFill>
          <a:blip r:embed="rId3"/>
          <a:stretch/>
        </p:blipFill>
        <p:spPr>
          <a:xfrm>
            <a:off x="826920" y="2276640"/>
            <a:ext cx="1872000" cy="1871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932360" y="4221000"/>
            <a:ext cx="2247840" cy="2082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268360" y="4437000"/>
            <a:ext cx="201780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cavenger Hun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d as many examples of investigation requiring proportional reasoning and multiplication models in the Ontario Document. (Grade 3 groups look at Grade 2-3, Grade 4 groups looks at grade 3 – 4,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ang in T-charts to develop the continuum on the w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amp Journal: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present one new connection you’ve made about proportional reasoning during your first day of Math CamPP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Rectangle 2" descr=""/>
          <p:cNvPicPr/>
          <p:nvPr/>
        </p:nvPicPr>
        <p:blipFill>
          <a:blip r:embed="rId1"/>
          <a:stretch/>
        </p:blipFill>
        <p:spPr>
          <a:xfrm>
            <a:off x="5076720" y="1916280"/>
            <a:ext cx="3389400" cy="256536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epen understanding of the continuum of thinking that links additive and multiplicative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erience, identify and clarify 3 part lesson structure and terminologies (Before, During, After/Minds On, Action, Consolidation/Getting Started…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Before/Part 1/Minds 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many different ways can you organize 16 cards.  Record your solutions in your math jour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During/Part 2/Ac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your group solve the 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 can have 100 Yugio cards a day for ten days. Or you can have 1 card doubled every day for 10 days.  What would you choos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ow your thinking and solution on the chart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During/Part 2/Action …continued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th Congress/Forum/Show and Share/Senate/Think P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iew the posted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isten to the group’s thinking about their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k respectful questions – honour each others’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tonnerj</cp:lastModifiedBy>
  <dcterms:modified xsi:type="dcterms:W3CDTF">2010-08-17T00:51:02Z</dcterms:modified>
  <cp:revision>150</cp:revision>
  <dc:subject/>
  <dc:title>Slide 1</dc:title>
</cp:coreProperties>
</file>